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D9A4-1A98-45C9-80BF-2DF6FF021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A048-9307-472E-B76F-B9C7E0C6B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3A29-384C-4D37-86D6-49E48C2F4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3B2D-F5D1-448A-9C25-4E564AFA1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9310-828D-49AD-8146-A21179283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B795-07ED-4AFC-A1B1-CFEAC0D0B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4269-7863-48BD-97BC-857D87F04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EE91-48E8-4BEE-96F3-323196FA3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AC72-0480-4B3D-9DAD-EF1701386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EEB9-80C3-4D7B-87D3-CC3CD28F8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862B-5B2F-48EC-8340-C9772595A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DA53-A6ED-4261-BED3-39847F3B6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6628-1946-401B-B150-36823981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C25A-95C2-4161-96E2-4E3658386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02AF-F773-49ED-8CD0-37DC089F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DE4C-CA15-4158-85BB-99E46201F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32CD-DD09-4817-8ADD-CCF62CDB5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F94B-AAE2-4FA6-AF33-963EBE84E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4EEC-E1A6-4E74-A71C-824F26FA7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AF5A-4D05-42A1-A40D-88180208F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454F-1E05-4808-ADC6-504763D2F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D2F6-0AFA-45DF-AB3B-07DB65C3C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E154-ACA5-41DF-A0D1-C74248C9D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E732-37B0-4A66-972B-8F4E0CCBD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A11B-9E6C-4305-BC33-289BD8892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C312-F00A-4403-897E-85CFDB76D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7F73-340B-4021-BA94-8CBEFF5FB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CEC4-043F-4FCC-8074-DAC44BAE5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EBCB-D47B-4E53-A28E-F5303B3F1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858E-E55C-4B63-B4D1-65409F3AC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7B29-8440-451D-A514-E95D446D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CF83-0B8C-4D70-A999-D5847E146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BE05-38D0-46A3-9378-BA9AAA19F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B62F-21A2-4BCE-8886-5DDAB6CAF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4B1B-9A74-4FEC-BE4B-7B8EB01EE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862B-946B-4C65-ADA3-40EE35760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463C-FE27-40DC-BA16-F4CD19667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2411-3C1D-4B59-A5B8-5EC24777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CBCA-A72F-4CF4-82DE-E38A60A0A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C12D-8EB0-42B2-BB76-B989A9368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EB43-10DF-4021-8733-13A3CF63B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7F92-BFA8-40F2-961E-823F0EFFE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8A3F-DEAB-48F8-AB45-3ED1FCC9C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AA06-60C7-4EE9-9431-EEB4B2B9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FDD0-D993-4EA5-B325-D88C99652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6370-5E5B-49BC-9AF1-93E7638D6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9EC7-E4BE-464C-977C-3E7B7E008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C3A2-20EF-4B48-8546-32B58E4DD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028D-C425-4ADA-93BA-848062DFA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42CF-826E-4119-A378-80222E056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431B-F85C-4513-8319-4611BFFE0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4B7E-A388-4F8A-970E-DC03E57C4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A6F0-843A-49E4-A934-2434300A6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6BD6-AA99-45E0-9053-B33E1F8EE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7870-9765-41C2-8D67-47AED83DD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6152-1859-4D04-A773-4B0653055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ED78-61F8-491E-A833-42B493872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0E29-9823-41D5-98F2-1269BD469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03BD-FAC7-470E-84CA-1E3209B22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46A6-FF4D-4EAA-B0E2-B41758B33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F960-032C-44C0-A3BD-8671D779B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F479-3A85-496A-B186-EDC378035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30A6-2E61-48DF-8F2D-EF45BBA60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25D1-229B-4DC2-8BBE-FA5565782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EBFA-D4BF-432E-8152-214C107F0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36A1-586B-4FE4-83A1-2C5834EAD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A2B4-FBC9-477F-BB6A-C137AB936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45E5-DCD6-4470-AA32-1FDC35FDD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DB20-3A3C-497C-A891-F70E0331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148C-1B71-4194-B4BB-ADB005BD1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E9D2-8ABC-4CF1-B440-67730733F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FC6-0DD5-4AEB-BA54-EE2D65DC9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BC8E-9783-4160-85E8-66B49FE61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0ACE-AE34-4EA3-96FD-AB44909BD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3338-2BAE-40A7-9032-A8387A655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44F-B5A5-404D-BACD-9754930B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477-9763-45A1-BB8D-A6BF13E0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789-EA91-46FC-A054-AA715455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E17-3FC6-4238-AD69-5ABFD68E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9C2-5D82-49E9-82F2-D2DA0B54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9A8-2DC9-40EA-978A-A5F01A79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F72-3E25-4C4A-B692-F489D26B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504-F185-4900-88DA-2659FAB5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3FE-27A9-4092-8DBE-9EC0C142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096-396D-49C7-9EA6-2D09CD96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A12-6235-46E8-9433-973521EB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70A-842E-4E6F-815E-D99CA6C8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9D72-BBFF-4A7A-9F5D-63C6A8B8E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513.imageshack.us/img513/4238/london2005vl5.jpg&amp;imgrefurl=http://forum.bgdcafe.com/lofiversion/index.php/t33937.html&amp;h=300&amp;w=400&amp;sz=23&amp;hl=sr&amp;start=3&amp;tbnid=1s-fpgl0tR_0AM:&amp;tbnh=93&amp;tbnw=124&amp;prev=/images%3Fq%3DLondon%26gbv%3D2%26hl%3Dsr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513.imageshack.us/img513/4238/london2005vl5.jpg&amp;imgrefurl=http://forum.bgdcafe.com/lofiversion/index.php/t33937.html&amp;h=300&amp;w=400&amp;sz=23&amp;hl=sr&amp;start=3&amp;tbnid=1s-fpgl0tR_0AM:&amp;tbnh=93&amp;tbnw=124&amp;prev=/images%3Fq%3DLondon%26gbv%3D2%26hl%3Dsr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тварање кодекса понашања здравствених радника, од пренаучне медицине до савременог доба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ипократова заклетва - актуелност етичких принци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Д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димир Јањи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ија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ХИПОКРАТОВА ЗАКЛЕ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нем се Аполоном 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екаро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склепијем, Хигијеом и Панакејом, свим боговима и божицама, зовући их за сведоке, да ћу по својим силама и савести држати ову заклетву и ове обвезе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ога ћу учитеља овог умећ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товати као своје родитеље, дава ћу му што му у животу буде потребно, његову ћу децу држати својом браћом, а буду ли хтели учити ову уметност, поучаваћу их без уговора и п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штаћу д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учеству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од предавања и обуке и у свем осталом знању, моја деца и деца мојега учитељ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ХИПОКРАТОВА ЗАКЛЕ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ћу и ђаке који се буду уговором обaвезали и овом заклетвом заклели, али никога другог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оје прописе одредићу по својим моћима и знању на корист болесника и штитићу га од свега што би му могло шкодити или нанети неправ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коме нећу, макар ме за то и молио, дати смртоносни отров, нити ћу му з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ати са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 тако нећу жени дати средство за 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д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ње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плoд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ХИПОКРАТОВА ЗАКЛЕ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 ћу и побожно живети и извршавати своју уметн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ћу опер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брежне каменце, него ћу то препустити другима, који се тиме баве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у год кућу ступим радићу на корист болесника, клонећи се хотимичног оштећивања, а особито завођења жена и мушкараца, робова и слобод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при свом послу будем сазнао или вид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, па и иначе, у односу с људима, колико се не буде смело јавно знати, прећ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ћ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адржаћу тајну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ли одржао ову заклетву и не будем ли је прекршио, нека ми буде сретан живот и успешна уметност, нека стекнем славу и углед код људи до у далека времена; прекршим ли ову заклетву и закунем ли се криво, нека ме задеси проти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одекс медицинске е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исани документ којим се јасно прецизирају етичка начела и обавезе здравствених ра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ипократова закле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Хипократ је први оставио писани документ у виду заклетве о обавезама и дужностима лекар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држала је пуну актуелност до садашњих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р вечите ист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летва је прожета обавезом према болесник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sr-Latn-CS" sz="2800" spc="-1" strike="noStrike">
                <a:solidFill>
                  <a:srgbClr val="ff3399"/>
                </a:solidFill>
                <a:latin typeface="Arial"/>
              </a:rPr>
              <a:t>Primum nоn nocere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најважније је не нашкодити болесни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Рим – јавља се интерес за правну страну лекарске одговор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7280" y="-10044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eneka</a:t>
            </a:r>
            <a:br>
              <a:rPr sz="3600"/>
            </a:br>
            <a:r>
              <a:rPr b="1" i="1" lang="sr-Latn-CS" sz="1400" spc="-1" strike="noStrike">
                <a:solidFill>
                  <a:srgbClr val="99cc00"/>
                </a:solidFill>
                <a:latin typeface="Arial"/>
              </a:rPr>
              <a:t>“Homo hominis sacer!”</a:t>
            </a:r>
            <a:r>
              <a:rPr b="1" i="1" lang="sr-Latn-CS" sz="1200" spc="-1" strike="noStrike">
                <a:solidFill>
                  <a:srgbClr val="000000"/>
                </a:solidFill>
                <a:latin typeface="Arial"/>
              </a:rPr>
              <a:t>  /</a:t>
            </a:r>
            <a:r>
              <a:rPr b="1" i="1" lang="sr-CS" sz="1400" spc="-1" strike="noStrike">
                <a:solidFill>
                  <a:srgbClr val="000000"/>
                </a:solidFill>
                <a:latin typeface="Arial"/>
              </a:rPr>
              <a:t>Човек је човеку светиња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457560" y="228600"/>
            <a:ext cx="4964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Опис негативног типа лекара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екар који ми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само опипа пул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уврсти ме у своје редовне посете  и којега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ја не заним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већ његови прописи о томе шта треба чинити и избегавати, он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циља само на мој нова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 јер он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није дошао да ме види као пријате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него да изда своје налоге. Ја треба да гледам на њега чак са презрењем, као на бестидног човека, ако му је стало само до посла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им, има и таквих који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позлеђују и погоршавају 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да би после тога јаче истакли вештину свога лечења и 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спевши у томе, завршавају тиме што 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че своје несрећне болеснике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75280" y="1025280"/>
            <a:ext cx="496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Опис позитивног типа лека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2000" spc="-1" strike="noStrike">
                <a:solidFill>
                  <a:srgbClr val="009999"/>
                </a:solidFill>
                <a:latin typeface="Arial"/>
              </a:rPr>
              <a:t>Мој лекар је према мени показао </a:t>
            </a:r>
            <a:r>
              <a:rPr b="0" lang="sr-CS" sz="2000" spc="-1" strike="noStrike" u="sng">
                <a:solidFill>
                  <a:srgbClr val="009999"/>
                </a:solidFill>
                <a:uFillTx/>
                <a:latin typeface="Arial"/>
              </a:rPr>
              <a:t>веће стрпљење</a:t>
            </a:r>
            <a:r>
              <a:rPr b="0" lang="sr-CS" sz="2000" spc="-1" strike="noStrike">
                <a:solidFill>
                  <a:srgbClr val="009999"/>
                </a:solidFill>
                <a:latin typeface="Arial"/>
              </a:rPr>
              <a:t> него што је дужан. Он је </a:t>
            </a:r>
            <a:r>
              <a:rPr b="0" lang="sr-CS" sz="2000" spc="-1" strike="noStrike" u="sng">
                <a:solidFill>
                  <a:srgbClr val="009999"/>
                </a:solidFill>
                <a:uFillTx/>
                <a:latin typeface="Arial"/>
              </a:rPr>
              <a:t>дрхтао више мене ради</a:t>
            </a:r>
            <a:r>
              <a:rPr b="0" lang="sr-CS" sz="2000" spc="-1" strike="noStrike">
                <a:solidFill>
                  <a:srgbClr val="009999"/>
                </a:solidFill>
                <a:latin typeface="Arial"/>
              </a:rPr>
              <a:t>, него ли ради части саме вештине лечења. Он се није задовољавао тиме да пропише лекове, већ их је и сам </a:t>
            </a:r>
            <a:r>
              <a:rPr b="0" lang="sr-CS" sz="2000" spc="-1" strike="noStrike" u="sng">
                <a:solidFill>
                  <a:srgbClr val="009999"/>
                </a:solidFill>
                <a:uFillTx/>
                <a:latin typeface="Arial"/>
              </a:rPr>
              <a:t>својом руком примењивао</a:t>
            </a:r>
            <a:r>
              <a:rPr b="0" lang="sr-CS" sz="2000" spc="-1" strike="noStrike">
                <a:solidFill>
                  <a:srgbClr val="009999"/>
                </a:solidFill>
                <a:latin typeface="Arial"/>
              </a:rPr>
              <a:t>. Увек неспокојан за мају судбину, увек марљив, он се хитно враћао код мене у критичним тренуцима. Најмучније услуге и најмрскије, нису га нимало спречавале. Никада </a:t>
            </a:r>
            <a:r>
              <a:rPr b="0" lang="sr-CS" sz="2000" spc="-1" strike="noStrike" u="sng">
                <a:solidFill>
                  <a:srgbClr val="009999"/>
                </a:solidFill>
                <a:uFillTx/>
                <a:latin typeface="Arial"/>
              </a:rPr>
              <a:t>није слушао моја стењања без саосећа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њ</a:t>
            </a:r>
            <a:r>
              <a:rPr b="0" lang="sr-CS" sz="2000" spc="-1" strike="noStrike" u="sng">
                <a:solidFill>
                  <a:srgbClr val="009999"/>
                </a:solidFill>
                <a:uFillTx/>
                <a:latin typeface="Arial"/>
              </a:rPr>
              <a:t>а</a:t>
            </a:r>
            <a:r>
              <a:rPr b="0" lang="sr-CS" sz="2000" spc="-1" strike="noStrike">
                <a:solidFill>
                  <a:srgbClr val="009999"/>
                </a:solidFill>
                <a:latin typeface="Arial"/>
              </a:rPr>
              <a:t>.  То није само лекар, него и </a:t>
            </a:r>
            <a:r>
              <a:rPr b="0" lang="sr-CS" sz="2000" spc="-1" strike="noStrike" u="sng">
                <a:solidFill>
                  <a:srgbClr val="009999"/>
                </a:solidFill>
                <a:uFillTx/>
                <a:latin typeface="Arial"/>
              </a:rPr>
              <a:t>пријатељ.</a:t>
            </a:r>
            <a:r>
              <a:rPr b="0" lang="sr-CS" sz="2000" spc="-1" strike="noStrike">
                <a:solidFill>
                  <a:srgbClr val="009999"/>
                </a:solidFill>
                <a:latin typeface="Arial"/>
              </a:rPr>
              <a:t> Ја му не могу исплатити хонорар, он ће остати увек мој поверилац: </a:t>
            </a:r>
            <a:r>
              <a:rPr b="1" i="1" lang="sr-CS" sz="2000" spc="-1" strike="noStrike" u="sng">
                <a:solidFill>
                  <a:srgbClr val="009999"/>
                </a:solidFill>
                <a:uFillTx/>
                <a:latin typeface="Arial"/>
              </a:rPr>
              <a:t>“дуг срца остаје стално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ENECA-Berlin-bust"/>
          <p:cNvPicPr/>
          <p:nvPr/>
        </p:nvPicPr>
        <p:blipFill>
          <a:blip r:embed="rId1"/>
          <a:stretch/>
        </p:blipFill>
        <p:spPr>
          <a:xfrm>
            <a:off x="8132760" y="115920"/>
            <a:ext cx="89388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63468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Arial"/>
              </a:rPr>
              <a:t>Scribonius Lar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  немам ни амбиције, ни лакомости,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ја имам само љубав за своју вештину: ја поштујем најлепшу м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ђ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 вештинама, вештину скоро надчовечанску, вештину која дозвољава да се олакша болесницима и да се поврати здрављ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 У томе је њен циљ. Некорисни су и достојни презира сви егоисти, али су највише за презирање и достојни мржње људи и богова они лекари, чија душа није испуњена саосећањем и човечношћу.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Лекар не треба да одмерава свој интерес према богатству и према положају својих пацијен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Arial"/>
              </a:rPr>
              <a:t>Scribonius Larg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Чак и непријатељи отаџбине имају право на саучешће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ао војник, и као грађанин он је дужан да се против њих бори без милости; а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као лекар, он треба да их негује, да их лечи и остајући веран светим обавезама, које му налаже његово занимање, он не треба никада да им да рђав лек. Ако се не ставља сва у службу болесника, медицина изневерава обећање које је дала људима да буде добричина и милосрдна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22320" y="41400"/>
            <a:ext cx="1714680" cy="2523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6676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dex Hammurabi)</a:t>
            </a:r>
            <a:r>
              <a:rPr b="0" lang="sr-Latn-CS" sz="3200" spc="-1" strike="noStrike">
                <a:solidFill>
                  <a:srgbClr val="006600"/>
                </a:solidFill>
                <a:latin typeface="Arial"/>
              </a:rPr>
              <a:t> Хумарабије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в закон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728-1686. године п.н.е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596600"/>
            <a:ext cx="88203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Хамураби послат на земљу од стране богова да направи мир, ред и правичнос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Чланов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 Шеловој нумерацији, 282 кратко исписана чл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Епил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Наводи своје заслуге, обећава божанске награде онима који поштују законик и проклиње оне који га не пошту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Законик у целој Месопотамији и после Хамурабијеве см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ис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закон је урезан у велики камени бло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вај закон био је у употреби више од 1000 год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Најстарији сачувани историјиски документ који говори о лекарској одговорности је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Хамурабијев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законик  у Вавилон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Историјски развој  медицинских заклетви 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тичких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одекс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дицинска професија је вештина која почива на два камена темељц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Висока стручност и овладавање медицинском нау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Начела хуманости и висока етичност која краси здравствену на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Хумарабиј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закон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Запис о дужностима лекара у току прегледа жена. По моралу, тај преглед би се могао обавити само у присуству трећег л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По његовим прописима, ако би се у току оперативног захвата пацијенту оштетио вид, лекару би одсекли ру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гулисао 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слове производње и промета пи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промету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ј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ило 20 раз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тих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вр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и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9900"/>
                </a:solidFill>
                <a:latin typeface="Arial"/>
              </a:rPr>
              <a:t>Formula comit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i="1" lang="sr-Latn-CS" sz="3200" spc="-1" strike="noStrike">
                <a:solidFill>
                  <a:srgbClr val="ff9900"/>
                </a:solidFill>
                <a:latin typeface="Arial"/>
              </a:rPr>
              <a:t>is archiatroru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500 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.e.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периода остроготског краља Теод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Од корисних умећа ниједно не пружа такву помоћ као лечењ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 Оно је у помагању болесника тако стално,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као мајчина љубав, бори се против болова и помаже нам онда, кад никакво богатство и моћ не могу више користи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 Медицина је умеће које више тога открива у човеку него што он сам о себи зна, то је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меће које јача колебљивце и нарушено здравље враћа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Лекари не смеју запустити своје знање и стално га морају проширивати и морају се узајамно саветова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9900"/>
                </a:solidFill>
                <a:latin typeface="Arial"/>
              </a:rPr>
              <a:t>Formula comit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i="1" lang="sr-Latn-CS" sz="3200" spc="-1" strike="noStrike">
                <a:solidFill>
                  <a:srgbClr val="ff9900"/>
                </a:solidFill>
                <a:latin typeface="Arial"/>
              </a:rPr>
              <a:t>is archiatroru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вечано сте обећали да ћете мрзети зло, а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љубити искреност и чистоћ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Може се омашка у обичном животу опростити, али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штетити људском здрављу, злочин је једнак убиству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Долазак лекара нека буде за болесника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посета драгог госта, који је за уморног освећење, за клонулог нова нада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Док други морају по закону вршити своју дужност, </a:t>
            </a:r>
            <a:r>
              <a:rPr b="0" lang="sr-Latn-CS" sz="2800" spc="-1" strike="noStrike" u="sng">
                <a:solidFill>
                  <a:srgbClr val="ff9900"/>
                </a:solidFill>
                <a:uFillTx/>
                <a:latin typeface="Arial"/>
              </a:rPr>
              <a:t>лекар треба да је врши са пожртвованошћу и љубављу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ЖЕНЕВСКА КОН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У другом светском рату догађали су се многи злочини ЛЕКАРА као што су експерименти на људима и геноци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Због тога је на иницијативу WНО-а 1948. састављена „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Женевска формулација Хипократове заклетве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конгресу Међународоног савеза лекарских друштава, у Женеви, 1948. године извршена је ревизија Хипократове заклетве чије је текст и данас текст лекарске закле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Женевск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формулациј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пократове закле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часу када ступам међу чланове лекарске професије, свечано о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вам 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свој живот ставити у службу хума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рема учитељима сачу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дужну захвалност и поштовање. Свој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професију обављати савесно и достојанств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ајважнија бриг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 ми бити здравље мога пациј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шт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тајну онога ко ми се пов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др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свим својим силама част и племените традиције лекарског поз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оје колеге 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 ми б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вршењу дужности према болеснику 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 на мене деловати никакви обзири вере, националности, расне, политичке или класне припад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псолут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поштовати људски живот од самог заче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и под претњом 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допустити да се искористе моја медицинска знања супротно законима хума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во о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вам свечано, слободно, позивајући се на своју част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Ова се заклетва темељи на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хуман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Вредности хуманизма лекар не сме прекршити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ни по цену властитог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Медицин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се одређује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као социјална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а не само природна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Рад лекара се не посматра само као техничка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вештина-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Лекари се сматрају друштвено активним хумани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нтернационални кодекс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едицинске етике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1949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01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својен је на 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ћ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генерал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купшт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ветског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екарс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руштва у Лондон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1949. год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опуне: 22. Скупштина у Сидне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96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35.Скупштина удружења у Венециј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98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london2005vl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89000"/>
            <a:ext cx="2195280" cy="1646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8298360" y="611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658720" y="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ДЕО -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Опште дужности ле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Лекар се увек мора придржавати највиших мерила професионалног понаш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Лекар не сме допустити да материјална добит утиче на слободу и независност његове стручне процене у вези са пациј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Лекар мора да настоји да у свим облицима медицинске праксе технички и морално потпуно независно пружи стручну медицинску услугу, саосећајући са пацијентом и поштујући људско достоја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Лекар мора да се поштено опходи с пацијентима и колегама и да настоји да разоткрије лекаре са недовољним знањем или оне који се упуштају у преваре и обм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london2005vl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81600" y="403200"/>
            <a:ext cx="11808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Опште дужности лека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/наставак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480" indent="-34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Неетичким понашањем се сматрају следећи поступц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480" indent="-34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Саморекламирање лекара, осим у облику у коме је дозвољено законом или етичким кодексом националног лекарског удруж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 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лаћање или примање било какве новчане надокнаде или другог облика награђивања за придобијање пацијената или препоручивање или упућивање пацијената на неки други на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480" indent="-34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Лекар мора да поштује права пацијента, колега и других здравсвених радника, те мора да чува поверљивост података о пациј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480" indent="-34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Лекар сме да се одлучи за лечење које може да ослаби физичко и психичко стање болесника само ако је то у корист самог боле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480" indent="-34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Лекар сме да издаје потврде или мишљења само на основу споственог на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226720" y="2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ке темеље лекарског рада је постави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ДЕО -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Лекарске обавезе према болес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екар увек мора да има на уму да му је дужност да чува људски жив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Болесник има право да очекује да ће му лекар бити одан и да ће му пружити све што медицинска наука омогућује. Ако лекар закључи да неопходне пратраге и лечење прелазе његове могућности, дужан је да се обрати другом, одговарајуће оспособљеном лека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екар је дужан да држи у тајсности све што зна о болеснику чак и после његове смр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умана је обавеза лекара да пружи прву помоћ, осим ако се увери да ту помоћ може да пружи неко други који је за то оспособљ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ӏ ӏ 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ДЕО -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Норме лекара једних према друг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екар мора да се опходи према својим колегама онако како он жели да се они опходе према њ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екар не сме мамити пацијенте свога коле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екар се мора придржавати принципа Женевске декларације коју је усвојило Светско лекарско удруж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298360" y="2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Основни етички принципи у стоматологиј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матологија је и наука и уметност лечења, обојена етичким понашањем и применом универзалних етичких нач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тички став лекара стоматолога почива на индивидуалном осећају одговорности према пацијенту и просуђивању шта је исправно и примерено понашањ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љни стандарди и утицаји, као што су професионални кодекси лекарске етике и законске регулативе, саме по себи не гарантују примену етике у прак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матолози морају да имају на уму границе односа лекар – пацијент, поштују пацијента и брину за његово добро, у складу са научним знањем и етчким принцип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е у односу на лекара налази 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ређеном полож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једној врсти посебне зависности; присиљен да се повери, не само знању, већ и добронамерности лек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шко 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ада и немогуће контролиса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рске поступ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а је важно да се нагласи значај унутрашње етичке контроле коју сваки стоматолог треба да 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ко можда није чуо за појам емпатије и етичке принципе, искусан стоматолог зна да је пацијент дошао због сметње или бола, потребе да му се помог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азивање помоћи пацијенту и отклањање бола некада је једноставно учинити познатим мануелним захватом, али је често повезано са применом сложених дијагностичких и техничких умећ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ин на који се ова умећа користе, првенствено зависи од знања и вештине лекара, али и од етичког приступа пације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 што стоматолог предлаже пацијенту у вези са лечењем, у суштини,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етичке је прир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кација коју стоматолог планира може да буде у супротности са жељама пацијента, док пацијентов избор може стоматологу да изгледа бесмис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ин на који се стоматолог односи према овим проблемима и како их решава одређује карактер његовог р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тичке дилеме у стоматологији често настају у оним случајевима који више зависе од моралне процене, него од лекарске вештине и зн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матолог је у недоумици да ли да новом пацијенту саопшти да је претходни терапеут направио грешке у лечењу, да ли може да одбије “незгодног пацијента”, да ли је морално прихватљиво да не прими пацијента колеге који тренутно није ту и сли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сваком оваквом или сличном случају етичка начела су на провери и наводе на размишљањ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Која су основна етичка начела у стоматологиј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а она која важе и у медицини и свим здравственим дисциплинама, описана као универзални етички принци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ђу њима се налазе класична етичка начела, која су остала непромењена од Хипократовог д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току последње две деценије издвојила су се нова етичка начела у односу лекар-пациј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Која су основна етичка начела у стоматологиј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матолог мора да познаје и класичне и савремене моралне принципе, уважава их и примењу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Која су основна етичка начела у стоматологиј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бегавање наношења штете пацијент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њење добра пацијент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утономија пацијент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исање пациј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Која су основна етичка начела у стоматологиј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оме се придружују и друга етичка начела, као што с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очинст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чнос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рљивос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анос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инитост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а ова начела се међусобно преплићу и произлазе једна из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бегавање наношења шт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иче из Хипократовог начела “Рrimum non nocere” (првенствено не нашкодит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ар-стоматолог ни једним својим поступком не сме да погoрша постојеће стање пацијента, не смe да нанесе штe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бегавање наношења шт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матолог не сме да проузрокује непотребан бол, не сме да озледи и онеспособи пацијента, не сме да погорша постојећу, ни да проузрокује нову болест, не сме да изазове  емоционални стрес пациј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ињење доб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атира из доб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Хипократа - “primum est adiuva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Првенствено, помоћи пацијенту значи учинити добро пације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У стоматологији, као и у медицини, чињење добра је основ профес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њење добра је дужност “prima facie” - дужност која се подразумева, која се интуитивно прихвата, дужност на први погл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њење доб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постоји врховни закон који то регулише; ни морални закон Канта, са златним правилом: “Све што хоћете да људи вама чине, чините и ви њима”, ни утилитаристички принцип “највећа могућа срећа за највећи могући број људ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решавању сукоба моралних принципа, неопходан је индивидуални приступ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ар стоматолог интуитивно користи своја основна морална начела после детаљног проучавања сваког појединог случа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вакав метод, међутим, има само релативну вредност јер почива на субјективној проц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л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Принцип ненаношења штете и принци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ињења доб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могу да се суко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вање апсолутног првенства начелу нечињења штете довело би до апсурдне ситуације: стоматолог не би смео да повреди пацијента, чак ни ради помоћи, дакле, чињења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нгирање принц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ријатност убода и пропратног дејства локалне анестезије је неопходна да би се избегао много јачи бол препарације зуба за круниц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клањање дела алвеоларне кости је штетно, али неизбежно да би се приступило импактираном трећем молару и цисти на њ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утори који верују у рангирање етичких принципа, сматрају да према правилима чињења добра, лекар не сме да изазива штету, мора да је спречава, ако је учињена, мора да је отклони и мора да помогне, односно, да чини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ако правило на вишем ступњу представља јачу обавезу од правила иза њ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нгирање принц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штујући овако рангиране принципе, лекар  стоматолог се понаша на следећи нацин: труди се д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не изазива штет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односно бол, тако што ради у локалној анестезији; поштује правило да спречава настанак болести, јер спровод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евентив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вило отклањања штете стоматолог испуњава уклањањем каријеса и стављањем адекватног испу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крају, стоматолог чини добро тако што ради естетску интервенцију на зубу, по жељи пацијента, под условом да је то индик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Према овој листи приоритета, </a:t>
            </a:r>
            <a:r>
              <a:rPr b="0" lang="it-IT" sz="3200" spc="-1" strike="noStrike">
                <a:solidFill>
                  <a:srgbClr val="99cc00"/>
                </a:solidFill>
                <a:latin typeface="Arial"/>
              </a:rPr>
              <a:t>превенциј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узима више место од отклањања штете, што је разумљиво и логи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ОКРА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460-377 п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о пацијента на аутоном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чело аутономије подржава право пацијента да самостално размишља и одлучује, доноси сопствене закључке и независно поступа, без икаквог утицаја са 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ар стоматолог поштује ово начело. Пацијент самостално одлучује о чињеницама значајним за здравље, после детаљног објашњења о поступку који сле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лов је да пацијент буде информисан на начин који ће најбоље да разуме, после чега даје свој пристан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сећамо да однос пацијента и лекара стоматолога није однос равноправних и једнаких. У складу с тим, пацијент не може да доноси аутономне одлуке уколико лекар не поштује његово право да буде одговарајуће  обавеш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о пацијента на аутоном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бог тога се говори о два вида аутоном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утоном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сама за себе, односи се на самоопредељење пацијен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штовање аутономије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о пацијента да поступи на основу личних уверења и процена, као и на обавезу лекара да аутономију пацијента пошту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утономија пацијента представља способност компетентног пацијента да доноси сопствене одлуке о свом здрављ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када, међутим, ни најаутономнија особа, у правном смислу, није у стању да донесе исправну одлу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 су следеће ситу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пацијент доноси одлуку без довољно јасних и разумљивих информација, значи да је непотпуно информис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пацијент не схвата дате информације, било због личне неспособности да разуме информацију, или начина на који је лекар саопшт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пацијента ометају неки унутрашњи чиниоци, као што је интензиван бол, да правилно разуме дату  информ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а схватања да је право на аутономију највиши принцип, који се не сме прекрши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 аутори говоре да право на аутономију мора да буде ограничено у случајевима у којима би самосталност у одлучивању штетила другим особ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Које од ових схватања има преднос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приме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примена локалне анестезије је уобичајен поступак у стоматологији, којим стоматолог поштује правило да се свака интервенција уради без бола, на начин који је најпријатнији за пацијент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окална анестезија омогућава да пацијент лакше поднесе интервенцију, да се планирани третман темељније уради, а да се истовремено избегне стрес и за лекара и за пацијент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а стоматолога који у тој мери придају значај локалној анестезији, да пацијенту који одбија да је прими, не желе да раде, или наговарају неодлучног пацијента да је прихват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друге стране, има пацијената којима само помињање локалне анестезије изазива паничан страх: страх од бола, убода игле, пропратног деловања анестетик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во на информис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т има право да буде истинито обавештен о стању свог здрављ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гноза, прогноза и терапија, користи и ризици лечења, као и дужина трајања поступка, подаци су на које пацијент очекује одго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матолог ове информације даје јасно и разумљиво, речима које ће пацијент сигурно разумети, зависно од година и образо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штина информације је да омогући пацијенту да самостално донесе одлуку, што може да учини само ако су му све важне информације доступ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лико информација за правилну одлу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појединим гранама стоматологије, за решавање истих ситуација у пракси, могу да се примене различите индикације и техн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је нарочито присутно у стоматолошкој протетици. Поставља се питање, са колико информација пацијент треба да располаже да би донео правилну одлу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акако да то зависи од неколико чинилаца: од врсте  планираног протетског рада (индикације), од самог пацијента и његове спремности да се подвргне интервенцији (често није једноставна, изискује време и одређена материјална средства), од личности стоматолога и нацина опхођења с пациј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тали етички принци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прав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повер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истини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вер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нцип прав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чност или праведност је етички принцип који стоматолога обавезује да све пацијенте исто уважава, без обзира на расу, веру, пол, националност, политичку или социјалну припадно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глед, образовање, па чак и сексуална опредељеност, не смеју да утичу на лични став стоматолога према пацијен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нцип прав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контактима са пацијентима, успостављају се различити емоционални односи: неке особе су нам симпатичне и блиске од првог тренутка, а неке, и поред најбоље воље, нис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з обзира на таква осећања, лекар стоматолог сваком пацијенту указује исто поштовање, уважава његову личност, интиму и достојанство, труди се да заступа став емпатије.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ако је Хипкрат творац заклетве, постоји уверење да је он није написао и да је и сам, као лекар, ту заклетву полага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нцип прав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хватање начела праведности у савременој етици, између осталог, огледа се у постојању права на лечењ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во начело обухвата три међусобно повезана ста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штено поступати са пацијенти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дати пацијентима оно што заслужуј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дати пацијентима оно на шта имају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Јасно је, да су ови ставови раз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ити и 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екада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усобно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олазе у сук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о правичност схватимо као једнакост и недискриминацију, онда би примена првог става значила обезбеђивање једнаких права у погледу стоматолошке здравствене заштите за све пацијен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ако би овакав став био идеалан чак и са аспекта етике, у пракси је неодрж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нцип поверљив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рљивост подразумева чување свих података о пацијенту, његовој болести и лечењ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ај поверљивости је у осећају сигурности коју пацијент има, у сазнању да је његов лекар “нем” за све што је сазнао и виде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нцип поверљив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нису само подаци везани за болесно стање пацијента, већ и подаци о личном животу пацијента, као и његове пород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цијент не мора да наглашава њихову поверљивост, стоматолог зна своју дужност и сам процењује степен њихове тај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нцип поверљив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нцип поверљивости омогућава да је пацијент сигуран у свог стоматолога и да се поузда у ње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вај принцип нема апсолутну вредност, што подразумева да стоматолог </a:t>
            </a: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може да га прекрш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уколико је то неопх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вакав поступак је етички оправдан </a:t>
            </a: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сам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ако би чување поверљивих података нанело штету пацијенту на кога се подаци односе или штету другим ли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нцип поверљивости је обавеза прећутног уговора између лекара и пациј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Она је стална и уобичајена формула, на коју пацијент с правом рачуна, а стоматолог се труди да је, кад год је то могуће, пошту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нцип истини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истинитости подразумева да стоматолог буде искрен у сваком тренутку према пацијенту, да му саопштава истину, да га не обмању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ај принцип је јасан и нема дилеме када се ради о једноставним болестима које имају добру прогно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облем се јавља код тешких, неизлецивих болести, са инфаустном прогно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о лекар тада посту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ласична етика, која следи Хипократа, сматра да се, пре саопштавања такве истине пацијенту, размисли да ли ће истина помоћи пацијенту или ће деловати супро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 значи, да према својој слободној процени, лекар може да каже пацијенту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потпуну истину о 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део ист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добронамерну ла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времена е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ступа став да се принцип истине поштује у свим случајевима, без обзира на то да ли доноси корист пацијен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акав став заступају и правници, који су мишљења да пацијент има морално право да зна пуну и праву истину о својој болести, те да му се ово право не сме оспори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нцип вер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разумева да је стоматолог одан свом пацијенту, да све што чини, чини у његову кор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ити посвећен пацијенту значи радити на заштити његовог оралног здравља, поштовати га као личност и уважавати његову интиму и достојан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 је уверење да је морално исправно држати обећања и испуњавати преузете обавезе, како имплицитне, тако и експлицит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рност у себи крије и осећај дужности према пациј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а аутора који сматрају да је верност уграђена у принцип поверљивости, односно принцип чувања лекарске тај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ДУЖНОСТИ ЛЕКАРА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СТОМАТО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Према болес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Према самом себи и колег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Према друштвеној заједн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кратова заклетва је трајно актуелан садржа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и о обавезама и дужностима лек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њој су садржана начела узајамног односа лекар-пацијент; лекар-учитељ; етички принципи преношења знања другима и примене у пракси туђих зн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крат је утемељио принципе поштовања личности болесника и чувања лекарске тај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ДУЖНОСТИ ЛЕК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Према болес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Дужност се темељи на хуманости и прав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«Само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добар човек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може бити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добар лекар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» (Nathnag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Лекар не сме нашкодити болеснику, мора лечити сваког болесника који му се обрати, мора чувати професионалну тајну, не искориштавати пацијента, не прекидати започето лечење 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Према самом себи и колегам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Лекар мора пазити на свој изглед, водити уредан живот, не излагати опасности свој живот и здравље, учити и пратити стручну литературу, подучавати млађе колеге ит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doctor.jpg"/>
          <p:cNvPicPr/>
          <p:nvPr/>
        </p:nvPicPr>
        <p:blipFill>
          <a:blip r:embed="rId1"/>
          <a:stretch/>
        </p:blipFill>
        <p:spPr>
          <a:xfrm>
            <a:off x="685800" y="4114800"/>
            <a:ext cx="1643040" cy="2378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171199-Rambo-Penticton.jpg"/>
          <p:cNvPicPr/>
          <p:nvPr/>
        </p:nvPicPr>
        <p:blipFill>
          <a:blip r:embed="rId2"/>
          <a:stretch/>
        </p:blipFill>
        <p:spPr>
          <a:xfrm>
            <a:off x="3733920" y="4267080"/>
            <a:ext cx="1757160" cy="2183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books.JPG"/>
          <p:cNvPicPr/>
          <p:nvPr/>
        </p:nvPicPr>
        <p:blipFill>
          <a:blip r:embed="rId3"/>
          <a:stretch/>
        </p:blipFill>
        <p:spPr>
          <a:xfrm>
            <a:off x="6324480" y="4800600"/>
            <a:ext cx="19274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Према друштвеној заједниц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Лекар мора чувати и унапређивати народно здравље, сузбијати заразне болести, вршити социјално- медицински рад, штитити околину ит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superhero.gif"/>
          <p:cNvPicPr/>
          <p:nvPr/>
        </p:nvPicPr>
        <p:blipFill>
          <a:blip r:embed="rId1"/>
          <a:stretch/>
        </p:blipFill>
        <p:spPr>
          <a:xfrm>
            <a:off x="3352680" y="4195800"/>
            <a:ext cx="23288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НАЈЧЕШЋИ ПОВОДИ НЕЕТИЧКИХ ПОСТП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жеља за зара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лакоумност и таш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лењ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сексуални инте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небри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greedy.jpg"/>
          <p:cNvPicPr/>
          <p:nvPr/>
        </p:nvPicPr>
        <p:blipFill>
          <a:blip r:embed="rId1"/>
          <a:stretch/>
        </p:blipFill>
        <p:spPr>
          <a:xfrm>
            <a:off x="6019920" y="1371600"/>
            <a:ext cx="2727360" cy="2421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3 lazy polar bears.jpg"/>
          <p:cNvPicPr/>
          <p:nvPr/>
        </p:nvPicPr>
        <p:blipFill>
          <a:blip r:embed="rId2"/>
          <a:stretch/>
        </p:blipFill>
        <p:spPr>
          <a:xfrm>
            <a:off x="5791320" y="44956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аје да закључимо да савремена медицинска етика са својим принципима посматра пацијента искључиво у контексту људских пра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и морални принцип је принцип поштовања права и достојанства чо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и модел односа између лекара стоматолога и пацијента има информативни и саветодавни облик заштите, при чему је примарно поштовање аутономије, односно самоодлучивање информисаног пациј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ократова заклетва обрађује све релевантне етичке аспекте лекарске профес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Primum non noce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 проблема еутана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ђути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 Хипократовој заклетви се не помиње </a:t>
            </a:r>
            <a:r>
              <a:rPr b="0" lang="sr-Latn-CS" sz="3200" spc="-1" strike="noStrike">
                <a:solidFill>
                  <a:srgbClr val="99cc00"/>
                </a:solidFill>
                <a:latin typeface="Arial"/>
              </a:rPr>
              <a:t>хуманизам,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а по женевској верзији ове заклетеве, лекар се обавезује 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посветити служењу хума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и једна друга професије не обавезује на хуманост у вршењу свога по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6:58:02Z</dcterms:created>
  <dc:creator>MEDF</dc:creator>
  <dc:description/>
  <dc:language>en-US</dc:language>
  <cp:lastModifiedBy>Slavica</cp:lastModifiedBy>
  <dcterms:modified xsi:type="dcterms:W3CDTF">2020-02-13T11:07:48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